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8CF-C177-405E-A2E8-70DC8053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3E4-263B-4872-B183-FF8CC156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A41-457B-489B-B665-2BA96DC8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3AC-B998-4BFE-BC5D-1D980C3E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EBD7-C1D7-4647-B87A-AE43E446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B85C-F00B-4183-80C8-B830A8B3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BBD1-7EEC-4BD5-87D1-8153AC3D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1FEF-802A-430E-B845-80D9A10E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4FBC-B57A-422D-9F51-B39C51F5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EE12-DB1D-41B3-A423-78506C81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2591-29B5-4FAA-923D-9C0DB412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860-E506-4C91-BB18-C10C33AF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A330-15C5-4D99-B3A9-823B172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614E-9E05-420F-A585-7D52C1E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D2F7-0BA4-4AEF-A26A-104B28EB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4CE8-C674-443F-A056-BF48BBD7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0D2E-037E-4956-BF8B-083AFC6C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A37-428B-49AB-8953-10BE780D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3D8-8840-48C3-854D-001ACD4D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736-5E0E-4BE7-812C-26C4CAC1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D1A-6100-4D78-8A9F-08950E8C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7E9-F0E8-4DD0-BFF4-83EA1EC4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2FD-365C-4254-857A-05D5029C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D7B-0506-4BA6-8847-58A4050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69F7-2758-4F59-8609-D3DC03ED4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D09B-3BB3-453E-B305-84D6AB11D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kz/search?p=3&amp;text=&#1074;&#1086;&#1089;&#1082;&#1083;&#1080;&#1094;&#1072;&#1090;&#1077;&#1083;&#1100;&#1085;&#1099;&#1081;%20&#1079;&#1085;&#1072;&#1082;%20&amp;spsite=fake-011-19917850.ru&amp;img_url=avtoliteratura.ru%2Ffiles%2FNakleyki%2FVosklZnak.JPG&amp;rpt=simag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1280" y="1052280"/>
            <a:ext cx="6553440" cy="33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ма 3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лементы графической нотации диаграммы прецеденто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58C5-4A5F-4CAA-9043-047DB3C446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Моделирование контекста систем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58920" y="907920"/>
            <a:ext cx="763416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Идентифицируйте актеров, взаимодействующих с данным элементом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Организуйте актеров, выделив общие и специализированные роли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Для каждого актера рассмотрите основные пути его взаимодействия с элементом. Рассмотрите альтернативные (исключительные) способы взаимодействия актеров с элементом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Организуйте выявленное поведение в виде прецедентов, применяя отношения включения и расширения для выделения общего и исключительного поведения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4360" y="3645000"/>
            <a:ext cx="4967280" cy="2938320"/>
            <a:chOff x="2484360" y="3645000"/>
            <a:chExt cx="4967280" cy="293832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rcRect l="27793" t="17268" r="7419" b="29493"/>
            <a:stretch/>
          </p:blipFill>
          <p:spPr>
            <a:xfrm>
              <a:off x="2484360" y="3646800"/>
              <a:ext cx="4967280" cy="29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24200" y="3645000"/>
              <a:ext cx="1012680" cy="230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297760" y="3832560"/>
              <a:ext cx="116280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34840" y="3832560"/>
              <a:ext cx="1087560" cy="11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5334840" y="4538880"/>
              <a:ext cx="1087560" cy="11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409720" y="5654880"/>
              <a:ext cx="10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6680" y="4465080"/>
              <a:ext cx="183780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046680" y="3980880"/>
              <a:ext cx="176292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6680" y="4502160"/>
              <a:ext cx="18378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CB8-D49C-40DE-851D-EA949E80BA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Моделирование требований к систем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8920" y="907920"/>
            <a:ext cx="763416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Установите контекст системы, идентифицировав окружающие ее актеры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Для каждого актера рассмотрите поведение, которого он ожидает или требует от системы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Поименуйте эти общие варианты поведения как прецеденты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Выделите общее поведение в новые прецеденты, которые будут использоваться другими; выделите вариации поведения в новые прецеденты, расширяющие основные потоки событий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Смоделируйте эти прецеденты, актеры и отношения между ними на диаграмме прецедентов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Дополните прецеденты примечаниями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860" t="14986" r="55140" b="41096"/>
          <a:stretch/>
        </p:blipFill>
        <p:spPr>
          <a:xfrm>
            <a:off x="3132000" y="3573360"/>
            <a:ext cx="4125960" cy="31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992-9908-4275-84D5-6D6BE795BE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изображении диаграммы прецедентов руководствуйтесь следующими принцип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920" y="1197000"/>
            <a:ext cx="763416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6000"/>
          </a:bodyPr>
          <a:p>
            <a:pPr marL="280080" indent="-280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дайте ей имя, соответствующее назначению;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расположите элементы так, чтобы свести к минимуму число пересечений;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пространственно организуйте элементы так, чтобы семантически близкие сущности физически располагались рядом;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используйте примечания и цвет, чтобы привлечь внимание читателя к важным особенностям диаграммы;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старайтесь не показывать слишком много видов отношений. В общем случае, если есть много сложных отношений включения и расширения, выделите их в отдельную диаграмму.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179-B084-440E-89DA-3074425581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211280" y="0"/>
            <a:ext cx="493236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Прецедент (Use case)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специфицирует поведение системы или ее части и представляет собой описание множества последовательностей действий (включая варианты), выполняемых системой для того, чтобы актер мог получить определенный результат, имеющий для него определенное значение</a:t>
            </a: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3429000"/>
            <a:ext cx="50083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Актер (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Actor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едставляет собой логически связанное множество ролей, которые играют пользователи прецедентов во время взаимодействия с ними. Актерами могут быть как люди, так и автоматизированные системы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709" t="58858" r="75064" b="21669"/>
          <a:stretch/>
        </p:blipFill>
        <p:spPr>
          <a:xfrm>
            <a:off x="1547640" y="836640"/>
            <a:ext cx="2928960" cy="1700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47665" t="14889" r="27413" b="48660"/>
          <a:stretch/>
        </p:blipFill>
        <p:spPr>
          <a:xfrm>
            <a:off x="6300720" y="3645000"/>
            <a:ext cx="2506680" cy="26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95F-6318-4974-9C80-6C74414984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2741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В UML поведение моделируется с помощью прецедентов, специфицируемых в отрыве от реа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2276640"/>
            <a:ext cx="6912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ецеденты предполагают взаимодействие актеров и системы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Развитие прецедентов осуществляется по-разному;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сякий прецедент должен выполнять некоторый объем работы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ецеденты могут быть применены ко всей системе или к ее частям, в том числе к подсистемам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107-1F96-421C-B765-59C089B9D3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79600" y="-93960"/>
            <a:ext cx="561672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юбой прецедент должен иметь им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98600" y="689040"/>
            <a:ext cx="7667640" cy="3811320"/>
          </a:xfrm>
          <a:prstGeom prst="rect">
            <a:avLst/>
          </a:prstGeom>
          <a:solidFill>
            <a:srgbClr val="f1e49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Правило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1. Имя прецедента может состоять из любого числа букв, цифр и некоторых знаков препинания (за исключением таких, как двоеточия, которые применяются для отделения имени прецедента от имени объемлющего пакета).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2. Имя прецедента может занимать несколько строк.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3. Для именования прецедентов используют короткие глагольные фразы в активной форме, обозначающие некоторое поведение и взятые из словаря моделируемой системы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229" t="62750" r="68401" b="18765"/>
          <a:stretch/>
        </p:blipFill>
        <p:spPr>
          <a:xfrm>
            <a:off x="2627280" y="4508640"/>
            <a:ext cx="4624560" cy="20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A76-6AA1-4AE7-98FE-3BEC8E952A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981000"/>
            <a:ext cx="1778040" cy="1800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64000" y="1052640"/>
            <a:ext cx="5580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Актеров можно связывать с прецедентами только отношениями ассоциации.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Ассоциация между актером и прецедентом показывает, что они общаются друг с другом, возможно, посылая или принимая сообщения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2DA-4DA2-4C3E-BF23-C65676C1B1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2738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Прецеденты и поток собы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76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ецедент описывает, что делает система (подсистема, класс или интерфейс), но не определяет, каким образом она это делает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31544" t="11279" r="4965" b="25539"/>
          <a:stretch/>
        </p:blipFill>
        <p:spPr>
          <a:xfrm>
            <a:off x="2050920" y="2028960"/>
            <a:ext cx="669780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163-DAED-41AA-A5C9-CCCF527708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52400" y="0"/>
            <a:ext cx="74912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оток событий в прецеденте можно описать различными способами, в том числе в виде неформализованного структурированного текс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1989000"/>
            <a:ext cx="727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imes New Roman"/>
              </a:rPr>
              <a:t>Основной поток событий.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Прецедент начинается, когда система запрашивает у клиента его персональный идентификационный номер (PIN). Клиент (Customer) может ввести его с клавиатуры. Завершается ввод нажатием клавиши Enter. После этого система проверяет введенный PIN и, если он правильный, подтверждает ввод. На этом прецедент заканчивается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imes New Roman"/>
              </a:rPr>
              <a:t>Исключительный поток событий.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Клиент может прекратить транзакцию в любой момент, нажав клавишу Cancel. Это действие начинает прецедент заново. Никаких изменений на счету клиента на производится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imes New Roman"/>
              </a:rPr>
              <a:t>Исключительный поток событий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. Клиент может в любой момент до нажатия клавиши Enter стереть свой PIN и ввести новый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imes New Roman"/>
              </a:rPr>
              <a:t>Исключительный поток событий.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Если клиент ввел неправильный PIN, прецедент запускается сначала. Если это происходит три раза подряд, система отменяет всю транзакцию и не позволяет данному клиенту снова начать работу с банкоматом в течение 60 секунд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2BD-3586-410A-9778-242572419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2738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Прецеденты и сцена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98100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Сценарий (Scenario)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 - это некоторая последовательность действий, иллюстрирующая поведение системы. Сценарии находятся в таком же отношении к прецедентам, как экземпляры к классам, то есть сценарий - это экземпляр прецедента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42826" t="21473" r="17317" b="25539"/>
          <a:stretch/>
        </p:blipFill>
        <p:spPr>
          <a:xfrm>
            <a:off x="1547640" y="2417760"/>
            <a:ext cx="4608720" cy="4440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84720" y="3213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Относительно сложная система содержит несколько десятков прецедентов, каждый из которых может разворачиваться в несколько десятков сценариев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882-8DD6-48EF-AD4D-CF2D6B69DA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2738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Организация прецеден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32606" t="14583" r="12254" b="37352"/>
          <a:stretch/>
        </p:blipFill>
        <p:spPr>
          <a:xfrm>
            <a:off x="1727280" y="1197000"/>
            <a:ext cx="7416720" cy="46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8C9-57D3-40C1-9989-3BA040D9D7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7:13:19Z</dcterms:created>
  <dc:creator>Пользователь</dc:creator>
  <dc:description/>
  <dc:language>en-US</dc:language>
  <cp:lastModifiedBy>Пользователь</cp:lastModifiedBy>
  <dcterms:modified xsi:type="dcterms:W3CDTF">2009-12-21T08:28:27Z</dcterms:modified>
  <cp:revision>16</cp:revision>
  <dc:subject/>
  <dc:title>Тема 3.  Элементы графической нотации диаграммы прецедентов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